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640-A7DC-4063-AB92-D4F48D46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7B1-FDE7-4F59-B7A6-0DD0EA4B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91F-22A4-4F1E-97BF-51763C13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2A5-DB4C-4E9D-ACB6-CCFC3B35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F2B7-05D7-4115-A568-B9DFE31C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20DD-1C30-42D3-A9A3-FD84BBA1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9DAF-3852-4B23-A88C-CC064603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0D93-B618-4617-B15D-6FF560BA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556B-602F-4478-B911-E04E6170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5571-C00E-4055-9339-CE0BE16A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965D-EE84-43BD-9947-E5DD4414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31D-38A3-4B17-A1D5-42F58AE0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B863-AD83-4B4F-A3F4-AA96E29E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02E4-479D-4CC6-BDAD-79616B8E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AB8A-D193-4575-90A3-1FCB8875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CEEE-6C0B-4440-8BE6-D552ED67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0CD7-8EE1-479B-83E1-5C20ED5E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0FC-245C-4AED-9C0B-FC19F5F2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6CA-69CA-4078-8E3D-465ABA91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9D8-4637-40A2-A73E-5356ECB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BB6-7816-4152-AA2A-9088EC42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F8A-41DE-4B98-BA5C-A356C725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CAB-235A-40B2-89DA-2BE19F63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F39-DE09-4F0F-AADE-B6BB8A10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76B7-8656-4F96-AD1B-FF3AB6B56D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0F2C-2D9E-4F73-9B02-DF3D1A581D3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 Clase 6NM(601)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La fecha es el 15 de octubre del 2012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Propósito # 9:</a:t>
            </a: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repasamos para la Prueba del Repaso 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opia y responde en oraciones complet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Es Ud. sociable o tími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Es Ud. alto o baj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Son Uds. franceses o norteamerican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Son Uds. ricos o pob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Es usted una persona alegre o tris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jercici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99"/>
                </a:solidFill>
                <a:latin typeface="Verdana"/>
              </a:rPr>
              <a:t>I- </a:t>
            </a:r>
            <a:r>
              <a:rPr b="1" lang="es-ES_tradnl" sz="2400" spc="-1" strike="noStrike">
                <a:solidFill>
                  <a:srgbClr val="9999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e el antónim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(opposi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fíci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an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ue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ua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vert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99"/>
                </a:solidFill>
                <a:latin typeface="Verdana"/>
              </a:rPr>
              <a:t>II-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leta co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amiga de Juan es de Boliv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muchachos son alumnos en ______ colegio San Sebasti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clases son aburridas y fác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______ casa es pequeñ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66236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Verdana"/>
              </a:rPr>
              <a:t>III-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a y completa con al forma correcta del verbo S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 padre _____ trabajad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 padre _____ español y mi madre _____ norteamerica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 hermano y yo ________ atlé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s padres también _______ atlé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sotros no _______ al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Yo _____ flaco, pero mi hermano _____ gor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s dos hermanas ______ buenas alumnas; ellas ______ muy intelig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________ tú? ¿________ alto o bajo, flaco o gor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ú _______ mi amigo. Tú ______ peruano, yo _______ norteamerica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6699"/>
                </a:solidFill>
                <a:latin typeface="Verdana"/>
              </a:rPr>
              <a:t>IV-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py and write the correct form of S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Él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ú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la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sotros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ted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los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o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la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tedes 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area # 9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 hoj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9:16:34Z</dcterms:created>
  <dc:creator>Helen Zumaeta</dc:creator>
  <dc:description/>
  <dc:language>en-US</dc:language>
  <cp:lastModifiedBy>Helen Zumaeta</cp:lastModifiedBy>
  <dcterms:modified xsi:type="dcterms:W3CDTF">2012-10-10T17:03:33Z</dcterms:modified>
  <cp:revision>4</cp:revision>
  <dc:subject/>
  <dc:title>Slide 1</dc:title>
</cp:coreProperties>
</file>